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141-2948-42CA-94CE-0D04EB90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62E-444B-4D5A-ADFA-11260295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6B0-79F0-431C-98B5-7F2E7D30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34C-9433-46CD-A30E-E8AEEF48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B6C-5EBC-4130-B0A4-4D05AF2A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EAC-4824-4C63-A983-AC33B2A9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60D-75E4-478C-9360-55AA4AAB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AC3-E74B-41CF-BFF0-4866BDD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ED7-E5CE-4AC6-8CB7-763443A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15B-CCCD-4E02-856D-A5BA2500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549-1505-4BE6-ADBA-97723F1C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874-BD2B-4361-A41F-4B3B3EC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973-A6FA-4577-816A-5464E58F4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9&amp;ver=kjv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9&amp;ver=kjv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&amp;ver=kjv" TargetMode="External"/><Relationship Id="rId3" Type="http://schemas.openxmlformats.org/officeDocument/2006/relationships/hyperlink" Target="http://www.christnotes.org/bible.php?book=1&amp;ver=kjv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&amp;ver=kjv" TargetMode="External"/><Relationship Id="rId3" Type="http://schemas.openxmlformats.org/officeDocument/2006/relationships/hyperlink" Target="http://www.christnotes.org/bible.php?book=1&amp;ver=kj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fathersloveletter.com/Devotionals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1&amp;ver=kjv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hyperlink" Target="http://www.christnotes.org/bible.php?book=9&amp;ver=kjv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ristnotes.org/bible.php?book=1&amp;ver=kj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971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o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d's_spacehand.jpg"/>
          <p:cNvPicPr/>
          <p:nvPr/>
        </p:nvPicPr>
        <p:blipFill>
          <a:blip r:embed="rId1"/>
          <a:stretch/>
        </p:blipFill>
        <p:spPr>
          <a:xfrm>
            <a:off x="228600" y="3240000"/>
            <a:ext cx="3733920" cy="2803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God's_eye.jpg"/>
          <p:cNvPicPr/>
          <p:nvPr/>
        </p:nvPicPr>
        <p:blipFill>
          <a:blip r:embed="rId2"/>
          <a:stretch/>
        </p:blipFill>
        <p:spPr>
          <a:xfrm>
            <a:off x="4952880" y="380880"/>
            <a:ext cx="3657600" cy="275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3657600"/>
            <a:ext cx="2971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proper resp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veryone: Love the brotherhood of believers, fear God and honor the king. 1 Peter 2:17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 prepared to learn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give you this charge: be prepared in season and out of season… 2 Timothy 4:1-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ways do your bes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we are God’s workmanship, created in Christ Jesus to do good works, which God prepared in advance for us to do.  Ephesians 2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 Samue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salm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erb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75248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75248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1676520"/>
            <a:ext cx="182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nesis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uteronom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al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erb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clesias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g of Solom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rem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enta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zek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n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e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o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ad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n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h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bakku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phan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gga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charia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ach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udents will demonstrate correct posture and position at the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udents will participate in a learn by doing atmosphere.  Completing in-class assignments using the word processing program, Microsoft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blical Truth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recognizes writing as a powerful tool to influence people. God himself wrote, God commanded others to write, and God keeps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students will demonstrate correct posture and position at the keyboard and using ten-keyp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students will participate in a learn by doing atmosphere.  Completing in-class assignments using the MS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cal Tru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each us to number our days, that we may apply our hearts unto wisdom…” (Psalm 90: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praise thee; for I am fearfully and wonderfully made.  (Psalm 138: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fathers_love_letter_paint.JPG"/>
          <p:cNvPicPr/>
          <p:nvPr/>
        </p:nvPicPr>
        <p:blipFill>
          <a:blip r:embed="rId1"/>
          <a:stretch/>
        </p:blipFill>
        <p:spPr>
          <a:xfrm>
            <a:off x="2133720" y="236232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athers_love_lett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838080"/>
            <a:ext cx="79250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iblical Refer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13444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aiah 43:7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creating fi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Timothy 6:20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proper ca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I Chronicles 30:16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correct posi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uteronomy 25:15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accurac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Samuel 26:1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proper spac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overbs 15:2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(timin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enesi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d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iti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uter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hu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 Samue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Samu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Kin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Chronic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 Testament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z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hemia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h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1:16:56Z</dcterms:created>
  <dc:creator>User</dc:creator>
  <dc:description/>
  <dc:language>en-US</dc:language>
  <cp:lastModifiedBy>User</cp:lastModifiedBy>
  <dcterms:modified xsi:type="dcterms:W3CDTF">2011-08-14T02:54:51Z</dcterms:modified>
  <cp:revision>6</cp:revision>
  <dc:subject/>
  <dc:title>God and Computers</dc:title>
</cp:coreProperties>
</file>